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3800" spc="-1" strike="noStrike">
                <a:solidFill>
                  <a:srgbClr val="ffffff"/>
                </a:solidFill>
                <a:latin typeface="American Typewriter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4FBF8-E217-4884-A4F0-1C5156F4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PCC-AR5 will have important political and social impact, rigorous procedures must be followed to QC the CMIP5 data and meta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1150740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39680" y="8269200"/>
            <a:ext cx="1150740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3968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612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0560" y="313524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821080" y="313524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39680" y="826920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930560" y="826920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821080" y="8269200"/>
            <a:ext cx="370512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39680" y="3135240"/>
            <a:ext cx="1150740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1150740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6080" y="279360"/>
            <a:ext cx="9537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968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98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36120" y="826920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968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6120" y="3135240"/>
            <a:ext cx="561528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9680" y="8269200"/>
            <a:ext cx="11507400" cy="46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esgf.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17520" y="-150840"/>
            <a:ext cx="13383720" cy="10046880"/>
          </a:xfrm>
          <a:prstGeom prst="rect">
            <a:avLst/>
          </a:prstGeom>
          <a:ln w="12700">
            <a:noFill/>
          </a:ln>
          <a:effectLst>
            <a:outerShdw algn="ctr" blurRad="63360" dir="5400000" dist="63360" rotWithShape="0">
              <a:schemeClr val="bg2">
                <a:alpha val="67999"/>
              </a:schemeClr>
            </a:outerShdw>
          </a:effectLst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17498880" y="6184800"/>
            <a:ext cx="9542160" cy="6698880"/>
          </a:xfrm>
          <a:prstGeom prst="rect">
            <a:avLst/>
          </a:prstGeom>
          <a:ln w="12700">
            <a:noFill/>
          </a:ln>
        </p:spPr>
      </p:pic>
      <p:sp>
        <p:nvSpPr>
          <p:cNvPr id="2" name="Rectangle 5"/>
          <p:cNvSpPr/>
          <p:nvPr/>
        </p:nvSpPr>
        <p:spPr>
          <a:xfrm>
            <a:off x="0" y="9144000"/>
            <a:ext cx="13068000" cy="647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464658"/>
              </a:gs>
            </a:gsLst>
            <a:lin ang="5280000"/>
          </a:gradFill>
          <a:ln w="12700">
            <a:noFill/>
          </a:ln>
          <a:effectLst>
            <a:outerShdw algn="ctr" dir="5400000" dist="406440" rotWithShape="0">
              <a:schemeClr val="bg2">
                <a:alpha val="67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3800" spc="-1" strike="noStrike">
              <a:solidFill>
                <a:srgbClr val="ffffff"/>
              </a:solidFill>
              <a:latin typeface="American Typewriter"/>
              <a:ea typeface="ヒラギノ明朝 ProN W3"/>
            </a:endParaRPr>
          </a:p>
        </p:txBody>
      </p:sp>
      <p:sp>
        <p:nvSpPr>
          <p:cNvPr id="3" name="Line 6"/>
          <p:cNvSpPr/>
          <p:nvPr/>
        </p:nvSpPr>
        <p:spPr>
          <a:xfrm>
            <a:off x="87120" y="1206360"/>
            <a:ext cx="12744360" cy="3240"/>
          </a:xfrm>
          <a:prstGeom prst="line">
            <a:avLst/>
          </a:prstGeom>
          <a:ln w="635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merican Typewriter"/>
              <a:ea typeface="ヒラギノ明朝 ProN W3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101520" y="9140760"/>
            <a:ext cx="1536480" cy="599760"/>
          </a:xfrm>
          <a:prstGeom prst="rect">
            <a:avLst/>
          </a:prstGeom>
          <a:ln w="12700">
            <a:noFill/>
          </a:ln>
        </p:spPr>
      </p:pic>
      <p:sp>
        <p:nvSpPr>
          <p:cNvPr id="5" name="Line 8"/>
          <p:cNvSpPr/>
          <p:nvPr/>
        </p:nvSpPr>
        <p:spPr>
          <a:xfrm flipV="1">
            <a:off x="0" y="9080280"/>
            <a:ext cx="13068000" cy="12600"/>
          </a:xfrm>
          <a:prstGeom prst="line">
            <a:avLst/>
          </a:prstGeom>
          <a:ln w="635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merican Typewriter"/>
              <a:ea typeface="ヒラギノ明朝 ProN W3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25200" y="9275760"/>
            <a:ext cx="2075400" cy="396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://esgf.org</a:t>
            </a:r>
            <a:r>
              <a:rPr b="0" lang="en-US" sz="2600" spc="-1" strike="noStrike">
                <a:solidFill>
                  <a:srgbClr val="004080"/>
                </a:solidFill>
                <a:latin typeface="Calibri"/>
                <a:ea typeface="Calibri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6"/>
          <a:stretch/>
        </p:blipFill>
        <p:spPr>
          <a:xfrm>
            <a:off x="11658600" y="38160"/>
            <a:ext cx="1091880" cy="1091880"/>
          </a:xfrm>
          <a:prstGeom prst="rect">
            <a:avLst/>
          </a:prstGeom>
          <a:ln w="1270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7"/>
          <a:stretch/>
        </p:blipFill>
        <p:spPr>
          <a:xfrm>
            <a:off x="76320" y="131760"/>
            <a:ext cx="1160280" cy="964800"/>
          </a:xfrm>
          <a:prstGeom prst="rect">
            <a:avLst/>
          </a:prstGeom>
          <a:ln w="12700">
            <a:noFill/>
          </a:ln>
        </p:spPr>
      </p:pic>
      <p:pic>
        <p:nvPicPr>
          <p:cNvPr id="9" name="Picture 12" descr=""/>
          <p:cNvPicPr/>
          <p:nvPr/>
        </p:nvPicPr>
        <p:blipFill>
          <a:blip r:embed="rId8"/>
          <a:stretch/>
        </p:blipFill>
        <p:spPr>
          <a:xfrm>
            <a:off x="11912760" y="9258480"/>
            <a:ext cx="987120" cy="444240"/>
          </a:xfrm>
          <a:prstGeom prst="rect">
            <a:avLst/>
          </a:prstGeom>
          <a:ln w="1270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39680" y="3135240"/>
            <a:ext cx="11507400" cy="98294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Second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Third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Four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Fif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6080" y="177840"/>
            <a:ext cx="9537480" cy="1041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CMIP5 Quality Assessment Procedure</a:t>
            </a:r>
            <a:br>
              <a:rPr sz="4000"/>
            </a:b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 </a:t>
            </a:r>
            <a:r>
              <a:rPr b="0" lang="en-US" sz="28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(courtesy of Luca Cinquini, JPL)</a:t>
            </a:r>
            <a:endParaRPr b="0" lang="en-US" sz="2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045120" y="1511280"/>
            <a:ext cx="6819480" cy="204444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QC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: “Automatic Software Checks on Data, Meta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CMOR compliance (integrity of CF metadata, required global attributes, controlled vocabulary, variables conform to CMOR tables, DRS lay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ESG Publis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045120" y="3784680"/>
            <a:ext cx="6819480" cy="204444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QC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: “Subjective Quality Control on Data, Meta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Metadata: availability and technical consistency of CIM metadata from Meta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Data: data passes additional consistency checks performed by QC software developed @ WDC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095880" y="6058080"/>
            <a:ext cx="6819480" cy="276840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QC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: “Double and Cross Checks on Data, Meta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Scientific Quality Assurance (SQA): executed by the author who manually inspects the data and metadata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Technical Quality Assurance (TQA): automatic consistency checks of data and metadata executed by WDC Climate (World Data Center for Cl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6781680"/>
            <a:ext cx="5498640" cy="204444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QC flag assigned after each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All changes to data result in new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All files are check-sum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Similar QC process for NASA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28600" y="1511280"/>
            <a:ext cx="5498640" cy="1599840"/>
          </a:xfrm>
          <a:prstGeom prst="rect">
            <a:avLst/>
          </a:prstGeom>
          <a:noFill/>
          <a:ln w="127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The CMIP5 archive will have extensive social and political impact &gt; model output published to the ESGF must undergo a rigorous Quality Assur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-63360" y="3048120"/>
            <a:ext cx="6246360" cy="373500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6080" y="279360"/>
            <a:ext cx="9537480" cy="7617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4080"/>
                </a:solidFill>
                <a:latin typeface="Calibri"/>
                <a:ea typeface="ヒラギノ角ゴ ProN W3"/>
              </a:rPr>
              <a:t>Technical Notes for Observations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5280" y="1407960"/>
            <a:ext cx="4495320" cy="420336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ヒラギノ明朝 ProN W3"/>
              </a:rPr>
              <a:t>Standard 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Purpose, point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Data fiel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Data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Considerations for Model-Observation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Instrumen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indent="-216000">
              <a:lnSpc>
                <a:spcPct val="100000"/>
              </a:lnSpc>
              <a:buClr>
                <a:srgbClr val="000000"/>
              </a:buClr>
              <a:buSzPct val="125000"/>
              <a:buFont typeface="Calibri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443560" y="1371600"/>
            <a:ext cx="3238200" cy="3771720"/>
          </a:xfrm>
          <a:prstGeom prst="rect">
            <a:avLst/>
          </a:prstGeom>
          <a:ln w="1270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8850240" y="1365120"/>
            <a:ext cx="3239640" cy="3771720"/>
          </a:xfrm>
          <a:prstGeom prst="rect">
            <a:avLst/>
          </a:prstGeom>
          <a:ln w="1270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5446800" y="5257800"/>
            <a:ext cx="3239640" cy="3771720"/>
          </a:xfrm>
          <a:prstGeom prst="rect">
            <a:avLst/>
          </a:prstGeom>
          <a:ln w="1270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8847000" y="5259240"/>
            <a:ext cx="3239640" cy="3771720"/>
          </a:xfrm>
          <a:prstGeom prst="rect">
            <a:avLst/>
          </a:prstGeom>
          <a:ln w="1270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152280" y="7785000"/>
            <a:ext cx="4508280" cy="109188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ヒラギノ明朝 ProN W3"/>
              </a:rPr>
              <a:t>Example: AIRS Air Temperature tech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reen">
  <a:themeElements>
    <a:clrScheme name="">
      <a:dk1>
        <a:srgbClr val="ffffff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dadada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dadada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Pages>0</Pages>
  <Words>238</Words>
  <Characters>0</Character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ptoukh</cp:lastModifiedBy>
  <dcterms:modified xsi:type="dcterms:W3CDTF">2011-07-13T19:53:3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2</vt:r8>
  </property>
</Properties>
</file>